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r of Thought: Hitting Unseen Target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reflect on quote and story - impact and connections to plen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cus of this story is intended to be for the teacher, planning without a goal in mind is like trying to hit a target blindfol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n planning for students teachers must have the goal clearly in mind - the learning tasks provide students the opportunity to hit the tar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pen conversation regarding placement of a learning goal in the math lesson.  Process vs content learning goals and their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reen shot of article will disappear on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st of sections to read will then appear with sam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article provides background information, including specifics regarding multiplicative and additive think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following sections of Recognising the Difference Between Additive and Multiplicative Thinking in Young Child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ults (Sections of inter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clusion &amp;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ppendix:  Description of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 +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swer question (in more than on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tribute appropriate lesson goal to grade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was the lesson goal – does this problem provide students opportunities demonstrate their learning of this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oth groups will share their observations with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dentify connection between responses and possible learning goal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participants an opportunity to review and revise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Journal Reflection: Reflect on a lesson that has really hit the target.  Describe the elements that wer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4DE9-9212-4D34-BDE5-250B2E700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4FF0-D515-4926-8E60-1EB8EC71A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F602-A458-40E0-BBDB-983403A53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042A-3898-45E6-A8F2-3AF2F5041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4BE4-9ED2-4626-A4B0-FF1586090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B6B9-5A29-4A05-B3C8-BC802AA0A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DAAA-2FE6-492E-BB01-520994D9A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4E61-2FFB-4FB1-87CB-8D879CBF4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425-BCBD-4BC5-8ACC-1987468FF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B46A-F90B-4C07-8C4B-C4DBDE487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0AC4-A6CC-48CE-8A27-F5A915C6D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A2FC-4101-4BB5-A452-7513ABB2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591B-AF9F-4119-8C6E-DDB224D53C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D6F-6E72-4FA0-954F-7606EA9DB4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42478"/>
                </a:solidFill>
                <a:latin typeface="Tahoma"/>
                <a:ea typeface="Tahoma"/>
              </a:rPr>
              <a:t>Learning Goals &amp; Consolidating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280" y="1947960"/>
            <a:ext cx="32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4791240" y="685800"/>
            <a:ext cx="3751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3882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136240" y="2209680"/>
            <a:ext cx="479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Sections of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&amp;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: Description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ing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ll Min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7404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ade groups, find curriculum connections to Grade 4 Proportional Reasoning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xpectations on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13380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4343400" cy="433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24640" y="13431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6480" y="522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provide students the opportunity to demonstrate the lesson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 the target</a:t>
            </a:r>
            <a:r>
              <a:rPr b="0" lang="en-CA" sz="2800" spc="-1" strike="noStrike">
                <a:solidFill>
                  <a:srgbClr val="000000"/>
                </a:solidFill>
                <a:latin typeface="Lucida Grande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73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4T05:26:43Z</dcterms:modified>
  <cp:revision>80</cp:revision>
  <dc:subject/>
  <dc:title>&lt;Title&gt;</dc:title>
</cp:coreProperties>
</file>